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FD9-E735-42C8-AFB9-8A4A75D2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4ED-CE6E-42FB-AF92-5584322A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6B9FD-1ABB-42F2-87E0-997BE49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70B58-6CB7-42C7-845C-13FF28D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E21F8-D3FF-47C3-8474-159BE6A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98D2E-8335-4508-A32A-1593E8F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02537-F4E1-48C3-B933-B44CAEA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B82F6-5681-4C89-A87D-DD7CBD70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E736F-E383-4050-BDA6-C732FF9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81889-E746-434A-A66C-5ABDFBFE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65A82-FC69-47D3-8450-90908C09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037CA-CC0C-416A-9898-5F39DBA7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9A6-0018-4298-85B0-29BA7FC5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A11C2-D14C-4069-A96A-46A4008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125F4-204A-4896-871B-B47F5E74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7BC3E-9DC3-4804-86CD-A6F85C46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BCC11-5A60-4F6C-BCA4-BF48F55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5E2A3-0CE6-463F-9A1B-591A5CB4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6E3D6-20DE-42CA-9594-F00ED2C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DA84F-2214-4E02-B86D-7B9E1ADF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EB3B8-376D-4410-9822-F24109C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B3CDA-0BEF-4588-81C1-289F4B97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385D2-9015-48B3-BE66-9E8A246B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37D-B855-470C-9882-BE23F810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8126F-7B46-4DCE-8B74-41B06422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1E6A6-5D38-4146-AF98-D1C250A5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5E757-A939-4B73-B90E-6316138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EC187-51B8-41D8-BD73-00015A27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6E614-C292-4179-BE97-86ACEB66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B238C-9B5E-4BB2-806A-222ABFE8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C1A14-233E-44D8-A773-61803E9E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0B607-1E3D-486A-A100-7E67D19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60C55-39AC-405D-98F6-8135A12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8A959-5102-42CC-9B40-9D13806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08B-072B-485A-AA2A-E1D43929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875D9-9D02-4B42-9424-F7858434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D2B4F-0976-4FA1-B48F-F61A1078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18688-F215-43F9-B666-FC5590CE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09B79-1BFA-4FB8-9C99-0B0F24DA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1E4C6-77C7-473D-9B18-AF30641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567D1-DCC9-4E73-B577-57624479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3D2E1-44FF-438B-81FC-6D2FFA94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7FC52-04C8-4173-B7A2-C81E45A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A8BBB-0BCB-44EA-9804-017634F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C5AFA-CA0B-4E1E-B708-7B4A078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0D8-0712-4B8B-BF88-24DB643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28F70-D293-42DC-A820-F56B678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D03A0-DBD4-4C84-AEB2-7FEF64C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664F2-8683-464E-B624-8511DB9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49E15-192B-45B2-9647-14C779D5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97284-5A29-4C63-9F12-B051D8AA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36D0-1EE4-4C33-83CA-1C30319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6BEB-5E36-42D0-9F68-4B295635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C7C-36D5-4BC0-820F-2F2E2255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F714-3823-4BA8-9AFE-49CA31AF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17B3-3EB6-44B4-8073-16642568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18B-9BD7-4799-9892-0DD0C093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0D97-3FEA-460B-8CA4-B8D13CC8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F306-5281-49ED-AC88-909A91B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1D32-D043-440A-BCAE-BD672FCA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4B4A-3779-4B5E-BB39-C26CDEC7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78DC-96C8-4A1F-B6DD-4C0B0F74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515C-D31C-44F1-ABA0-3C6F3362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ECA2-4575-4804-8481-52F9F5D1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6BA3-D434-4354-BF13-B24C06A9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F471-40F0-4F7C-8EC3-71028CB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7508-A5BF-4CC2-BA84-5CAEF80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185-61EA-424F-BE90-1D29602B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BCF9-EA2D-4E1F-A29B-8EC1ADB7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D7EA-7542-44C9-943D-F1181B1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C276-4883-40FB-B755-EC91C4F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51E3-4687-4A46-9364-D70C2AB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9C4B-4EBD-4C29-90EC-D5BD090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7750-317B-4583-B3B3-DEDE48E9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8C75-4E06-4F5B-82BD-599948B3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8626-ED62-455D-A966-A235BF59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E9A2-F7A8-439A-8E97-D1CD69E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9D38-226A-4727-80ED-143D8E0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05B-7E48-443D-80FA-E514624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616F-345D-4167-A83A-87D2AC24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20FA-0DD4-48ED-B845-FD4117D8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6102-7BFB-4393-8EFE-446F6D5F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13C1-53EB-4530-BF99-08B1E75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7E04-F916-41F9-97FC-BEFBA1E0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A9C5-FFEB-48BB-845B-145D0B0A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E038E-057E-4EF3-A59E-99F224E2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9848-33B9-41B5-BAE3-D9C95582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BE35-6E0D-44BE-AA73-415D474A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E6C0-ACA7-46FA-93FA-32360A13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7D1-C611-41F6-BAC9-16AAFF80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AA53-044B-4390-A7E9-FA0BA246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CD85-1937-4B7C-860F-3F3ED72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1E50-27B2-4E26-B03E-07342FC9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2F1C-C74C-4198-B708-B259413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A6CE-A4BF-406A-8CA7-80B8B8B2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88E0-E206-48E1-967C-789CC076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A34E0-CA6D-4613-A7B3-5EEB854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6AD2-447D-43A2-A4C3-A8BB29F2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DA28-126D-4C54-9378-6A6363FB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D93C-92FF-43A0-9C1F-205C97B2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533-282A-47BC-8F66-FAED2B6B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8B3CC-0DAF-40F8-8256-C9D0759F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1669-DE46-402F-AC50-DE5FD124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24334-BC4E-49A1-8EBE-4736C09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2459A-9E0B-43EA-90FB-C33F9E93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0379-B685-4AB7-BFDC-DECA2FA3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26566-8993-41EB-A70B-B7860D30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0142-3F1A-4914-8742-ED3BFE5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D2D9-D325-443A-81EB-DEA461F2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178CB-AD59-4A39-9FE1-66C30E8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FE49-6D4C-4900-9B82-64EBA95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1F2-9B9B-4206-AEDB-8B7A5D3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D4FA-0D69-4791-BA58-A50F4AE0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7E20-6F92-4793-AADD-A975363D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6F9C-5E98-4497-9653-819363CB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5850C-E48D-4C69-9741-58E72E0A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1D213-1252-4A92-995B-B2078D29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24F8F-CE4A-4294-8A5F-9257380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028D-959D-448D-AD38-AD18DD48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2B3A-34AC-4A06-92C2-629BAEDF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F39F1-CBDE-4A54-9528-B1C0B302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59EA-2F09-4B57-A074-9BB42513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EF2-8A9F-4CAB-B585-D0C5557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8B678-2304-4975-8EFA-780396A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397C1-BBB6-40C1-B3F6-C61337E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3A23-7007-4EC2-88B3-6F7964AA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9375-7FE2-4732-B226-4E351FF7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87510-7BFD-4A8B-B671-413817F3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0BC5-5169-4765-AB74-F3F734C3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2CAC7-C335-4A58-8F9C-37FFBFC5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6DDC-1850-4DE2-ABE4-7D5BEE9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18EDA-42F2-49A3-8A26-09B705F7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7022-9EBC-494C-9C0B-5842A4E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19F-218B-4D37-A73B-26D93FA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1DCF-D99F-4D7B-98BE-8E8C1E43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DCB51-E85A-4287-8DBF-7F4F596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5F8C-0D27-4344-9A49-D034565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62EC1-F381-442A-89A8-F0D3B97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F2A29-140B-4E83-9663-FA8C5A3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83C7-7F1C-4145-AA95-44F171F6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0FD3E-A741-44D6-91B7-8710DC54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7D816-26FD-4904-9FA4-F82A0D42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4CA61-2CAF-42C5-80D4-70E249E3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4BF8D-339A-47B1-ABCC-241C8C3F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21F9-6091-48FD-9EAD-23E3F4795F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578D-2E14-412A-8C74-8DA940AC1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3B4B-F7FC-46EB-8459-5B13B8D3D0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C8C-D155-456F-B0AB-842B17613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0996-9E14-4852-A8AD-F3DDC0E84B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068E-9D94-4C36-A47E-713AED3A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00B2-9267-4BF3-8561-7B8FE4DCC13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C10A-3F9D-4054-81D4-6740FC131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697-77EB-4232-A0A1-3590C43F84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B9F-D1CC-4E86-93DF-FD888DF8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F44A-AA82-40FD-BDCA-59D14FA10D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343-CE76-4258-AAD6-F33AA15E9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B742-301F-4F0A-9604-C3202C26EC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8482-6998-4C61-BF9E-0D0173DB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1A9-D460-4F3A-9B66-4321C8D941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F2C-8600-4BEF-93A7-84BD9CED3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F3CC-925A-4C89-8828-A37A078F13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B4C5-1166-4B31-9C56-1F88902B5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8F9F-E231-4D24-B8AF-B4639056EC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4ABE-5B6D-4197-9BB5-64439787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89A-5DCE-4AB8-AD0A-D6E7722179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4113-EBBF-4B1E-BE01-15C258CE4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F504-4E09-436F-8209-728ADF4594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B15-AEED-40F5-AF0F-CBBDF6D58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8.xml"/><Relationship Id="rId22" Type="http://schemas.openxmlformats.org/officeDocument/2006/relationships/slide" Target="slide28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audio" Target="../media/whoosh.wav"/><Relationship Id="rId2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5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116000" y="1413000"/>
            <a:ext cx="705636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Phase of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heart rhyth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when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s at r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029040" y="1676520"/>
            <a:ext cx="334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asto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1"/>
          <p:cNvSpPr/>
          <p:nvPr/>
        </p:nvSpPr>
        <p:spPr>
          <a:xfrm>
            <a:off x="2068560" y="1461960"/>
            <a:ext cx="500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ransports oxygen, carbon dioxide and Hemoglob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62840" y="1844640"/>
            <a:ext cx="5699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d blood cells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"/>
          <p:cNvSpPr/>
          <p:nvPr/>
        </p:nvSpPr>
        <p:spPr>
          <a:xfrm>
            <a:off x="1908000" y="1876320"/>
            <a:ext cx="49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Fights against germs and foreign mater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459080" y="1724040"/>
            <a:ext cx="62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ite blood cell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1"/>
          <p:cNvSpPr/>
          <p:nvPr/>
        </p:nvSpPr>
        <p:spPr>
          <a:xfrm>
            <a:off x="1692360" y="1844640"/>
            <a:ext cx="61722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Pumps blood to the entire bo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2652120" y="2108160"/>
            <a:ext cx="392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Hear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1"/>
          <p:cNvSpPr/>
          <p:nvPr/>
        </p:nvSpPr>
        <p:spPr>
          <a:xfrm>
            <a:off x="1150920" y="1838160"/>
            <a:ext cx="684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Responsible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blood clot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811960" y="1844640"/>
            <a:ext cx="34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latelet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22093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ircuit from the heart to the lungs and 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1"/>
          <p:cNvSpPr/>
          <p:nvPr/>
        </p:nvSpPr>
        <p:spPr>
          <a:xfrm>
            <a:off x="563400" y="1563840"/>
            <a:ext cx="79930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Liquid part of the bloo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in which blood cel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are suspen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3146760" y="1600200"/>
            <a:ext cx="297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lasm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1"/>
          <p:cNvSpPr/>
          <p:nvPr/>
        </p:nvSpPr>
        <p:spPr>
          <a:xfrm>
            <a:off x="571680" y="1341360"/>
            <a:ext cx="828180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Largest artery i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the human bo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804760" y="2108160"/>
            <a:ext cx="369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Aort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1"/>
          <p:cNvSpPr/>
          <p:nvPr/>
        </p:nvSpPr>
        <p:spPr>
          <a:xfrm>
            <a:off x="826920" y="1623960"/>
            <a:ext cx="7632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Tiny blood vesse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that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one blood cell w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2743560" y="1916280"/>
            <a:ext cx="399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apillari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1101600" y="1479600"/>
            <a:ext cx="69408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Blood vesse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are elastic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and muscula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2990520" y="1658880"/>
            <a:ext cx="34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rteri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1224000" y="1376280"/>
            <a:ext cx="6696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Blood vessels that contains valves to prevent backflow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825480" y="2108160"/>
            <a:ext cx="722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ein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1516320" y="2230560"/>
            <a:ext cx="6398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ulmonary Circui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1"/>
          <p:cNvSpPr/>
          <p:nvPr/>
        </p:nvSpPr>
        <p:spPr>
          <a:xfrm>
            <a:off x="1173240" y="1268280"/>
            <a:ext cx="67975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All arteries carry oxygen-rich blood except for this artery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619200" y="1874880"/>
            <a:ext cx="7891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ulmonary artery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1"/>
          <p:cNvSpPr/>
          <p:nvPr/>
        </p:nvSpPr>
        <p:spPr>
          <a:xfrm>
            <a:off x="1174680" y="1557360"/>
            <a:ext cx="679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Divides the hear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to two s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2458800" y="1916280"/>
            <a:ext cx="4208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eptum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"/>
          <p:cNvSpPr/>
          <p:nvPr/>
        </p:nvSpPr>
        <p:spPr>
          <a:xfrm>
            <a:off x="1071720" y="1700280"/>
            <a:ext cx="66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ype of arteri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supply bloo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o the heart muscle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576440" y="2060640"/>
            <a:ext cx="6206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ronary arteri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52280" y="1219320"/>
            <a:ext cx="880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1"/>
          <p:cNvSpPr/>
          <p:nvPr/>
        </p:nvSpPr>
        <p:spPr>
          <a:xfrm>
            <a:off x="993600" y="1652760"/>
            <a:ext cx="746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thick muscu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layer of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contra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0" y="1827360"/>
            <a:ext cx="8729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myocardium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"/>
          <p:cNvSpPr/>
          <p:nvPr/>
        </p:nvSpPr>
        <p:spPr>
          <a:xfrm>
            <a:off x="1652760" y="1212840"/>
            <a:ext cx="607680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protective tissue that encloses and protects the hear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703880" y="1739880"/>
            <a:ext cx="5464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pericard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"/>
          <p:cNvSpPr/>
          <p:nvPr/>
        </p:nvSpPr>
        <p:spPr>
          <a:xfrm>
            <a:off x="1866960" y="1801800"/>
            <a:ext cx="53658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ircuit from the heart to the body and 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1"/>
          <p:cNvSpPr/>
          <p:nvPr/>
        </p:nvSpPr>
        <p:spPr>
          <a:xfrm>
            <a:off x="571680" y="1197000"/>
            <a:ext cx="7943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in layer of ver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smooth tissu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lining the insid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of each chamb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of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71360" y="1687680"/>
            <a:ext cx="882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ocardium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Box 1"/>
          <p:cNvSpPr/>
          <p:nvPr/>
        </p:nvSpPr>
        <p:spPr>
          <a:xfrm>
            <a:off x="1547640" y="1268280"/>
            <a:ext cx="64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Times New Roman"/>
              </a:rPr>
              <a:t>The number of chambers in the hear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3128400" y="1676520"/>
            <a:ext cx="297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"/>
          <p:cNvSpPr/>
          <p:nvPr/>
        </p:nvSpPr>
        <p:spPr>
          <a:xfrm>
            <a:off x="571680" y="1557360"/>
            <a:ext cx="80262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hamber of the heart that receives oxygen-poor blood from the body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981080" y="2108160"/>
            <a:ext cx="474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 atrium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866880" y="1654200"/>
            <a:ext cx="76006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hamber of the hear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pumps bloo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to the lu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811160" y="1353960"/>
            <a:ext cx="527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 ventric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1"/>
          <p:cNvSpPr/>
          <p:nvPr/>
        </p:nvSpPr>
        <p:spPr>
          <a:xfrm>
            <a:off x="957240" y="1689120"/>
            <a:ext cx="679608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larger numb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 a blood pressure reading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3143880" y="1676520"/>
            <a:ext cx="302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ysto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1744200" y="1568520"/>
            <a:ext cx="583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ystemic circu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2"/>
          <p:cNvSpPr/>
          <p:nvPr/>
        </p:nvSpPr>
        <p:spPr>
          <a:xfrm>
            <a:off x="611280" y="1413000"/>
            <a:ext cx="756108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smaller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 a blood pressure re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2925360" y="2109960"/>
            <a:ext cx="316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asto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2160720" y="1341360"/>
            <a:ext cx="482256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irculation from the aorta to the coronary vess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310040" y="1720800"/>
            <a:ext cx="625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ronary Circu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1447920" y="1844640"/>
            <a:ext cx="58608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heart’s pacemak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2330280" y="1887480"/>
            <a:ext cx="4304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no Atria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SA) nod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obilef</cp:lastModifiedBy>
  <dcterms:modified xsi:type="dcterms:W3CDTF">2012-12-06T20:43:09Z</dcterms:modified>
  <cp:revision>79</cp:revision>
  <dc:subject/>
  <dc:title>Blank Jeopardy</dc:title>
</cp:coreProperties>
</file>